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43B-ADF1-4C4F-A069-9A6375BF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8BC-AC9D-476C-91F1-71434F9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834-19C2-4762-9F7F-C0877919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137-6A13-4172-9BD3-3A97202E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800C-1C4C-4C12-8394-26ED8F6E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FC7-CF32-4363-9068-B07F3C52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CF89-77EE-48FF-83E6-E89C50C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3C2-28EB-4E44-8C9B-52A9689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0B5-148E-43B3-94EE-C148E11F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FBD-F765-49A2-B7E3-751E97E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7CF-917B-40F1-8CBA-DF15FE3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823-A4B1-4F4E-8628-D9CF6D0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4257-A4D9-4B0A-8CE6-9B736DFB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013-E03E-4B80-AAEE-E72CEC3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EE0F-4446-46D8-9ED5-5003852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05AE-84D0-4B2A-B65D-881F3C19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0C56-CD02-40ED-9A64-D162E832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CE5-D8C3-44F1-B8F4-ED3C8407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F0F-AD34-4F32-8946-D3E96FF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82B-FBA7-4395-8A54-D42C70C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4DD-46D8-45D4-AF7E-33841AB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6C5-886E-4524-8F76-DA48C05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B4B-BA3C-41D1-A165-2870B9A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87F-2648-4513-BBD1-C2A8661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6EC8-F6EE-4EAC-8120-0DC12DD605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FF4C-6EB6-4799-B4FD-6C31A2605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ngeles County High School for the Arts</a:t>
            </a:r>
            <a:br>
              <a:rPr sz="2000"/>
            </a:br>
            <a:r>
              <a:rPr b="0" lang="en-US" sz="4400" spc="-1" strike="noStrike">
                <a:solidFill>
                  <a:srgbClr val="865a04"/>
                </a:solidFill>
                <a:latin typeface="Arial"/>
              </a:rPr>
              <a:t>Certificate of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08280"/>
            <a:ext cx="815328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5a04"/>
                </a:solidFill>
                <a:latin typeface="Arial"/>
              </a:rPr>
              <a:t>Stephanie Sn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er Up Video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lcom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1: Wireless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1840" indent="-2301840"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t Classroom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1840" indent="-2301840"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C42-1FDA-48FF-8580-50F0563DDA38}" type="datetime3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828800" cy="171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34400" y="556272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 Becker, Julie Lindsay &amp; Vicki Da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5562720"/>
            <a:ext cx="4343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3:43:29Z</dcterms:created>
  <dc:creator>Office 2004 Test Drive User</dc:creator>
  <dc:description/>
  <dc:language>en-US</dc:language>
  <cp:lastModifiedBy>Office 2004 Test Drive User</cp:lastModifiedBy>
  <cp:lastPrinted>2007-12-21T01:06:17Z</cp:lastPrinted>
  <dcterms:modified xsi:type="dcterms:W3CDTF">2007-12-21T01:07:16Z</dcterms:modified>
  <cp:revision>2</cp:revision>
  <dc:subject/>
  <dc:title>Los Angeles County High School for the Arts Certificate of Excellence</dc:title>
</cp:coreProperties>
</file>